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D9D-EFAF-46B0-B3A1-D3332941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E37-AC5A-402E-BB3E-461788C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869-0A72-4419-890F-4AD29E6F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18C-D593-4196-9A5D-759B8B79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587-13A2-4E73-9DCB-7A5B2085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98D-7137-4FB3-9A12-F8654C17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49D-EFC0-4CAE-B64C-134A5AF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399-2E89-45A7-A2EA-79F99B3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315-5611-4D6D-91AE-CE838447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167-CE8B-4B3A-8AEE-807C336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3A1-1959-46F9-9025-CC6072F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DEA-F4D8-4708-817A-07A4606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3D2-471B-4DA4-A437-7DAB3F978C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49cdc"/>
                </a:solidFill>
                <a:latin typeface="Comic Sans MS"/>
              </a:rPr>
              <a:t>  </a:t>
            </a:r>
            <a:r>
              <a:rPr b="1" lang="en-US" sz="9600" spc="-1" strike="noStrike">
                <a:solidFill>
                  <a:srgbClr val="00b050"/>
                </a:solidFill>
                <a:latin typeface="Comic Sans MS"/>
              </a:rPr>
              <a:t>Beatl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sca148.jpg"/>
          <p:cNvPicPr/>
          <p:nvPr/>
        </p:nvPicPr>
        <p:blipFill>
          <a:blip r:embed="rId1"/>
          <a:stretch/>
        </p:blipFill>
        <p:spPr>
          <a:xfrm>
            <a:off x="208080" y="1401840"/>
            <a:ext cx="3698640" cy="10040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3143160" y="28576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Выполнил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Ромео Монтекки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6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УДИВИТЕЛЕН ИХ ПРОГРЕСС С НЕВЕРОЯТНОЙ СКОРОСТЬЮ :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ЕЩЕ В НАЧАЛЕ 62-ГО ИХ МАЛО КТО ЗНАЛ.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В 63-М - ВСЯ ВЕЛИКОБРИТАНИЯ У ИХ НОГ.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С 64 ПО 66 ГОДА ВОЛНА «БИТЛОМАНИИ» - ПРОКАТИЛАСЬ ПО МИ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beatlzz32.jpg"/>
          <p:cNvPicPr/>
          <p:nvPr/>
        </p:nvPicPr>
        <p:blipFill>
          <a:blip r:embed="rId1"/>
          <a:stretch/>
        </p:blipFill>
        <p:spPr>
          <a:xfrm>
            <a:off x="4389480" y="0"/>
            <a:ext cx="4754520" cy="5108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9cdc"/>
                </a:solidFill>
                <a:latin typeface="Calibri"/>
              </a:rPr>
              <a:t>ПОСЛЕ РАСПАДА ГРУППЫ В</a:t>
            </a:r>
            <a:r>
              <a:rPr b="1" lang="en-US" sz="3600" spc="-1" strike="noStrike">
                <a:solidFill>
                  <a:srgbClr val="749cdc"/>
                </a:solidFill>
                <a:latin typeface="Calibri"/>
              </a:rPr>
              <a:t>1970, </a:t>
            </a:r>
            <a:r>
              <a:rPr b="1" lang="ru-RU" sz="3600" spc="-1" strike="noStrike">
                <a:solidFill>
                  <a:srgbClr val="749cdc"/>
                </a:solidFill>
                <a:latin typeface="Calibri"/>
              </a:rPr>
              <a:t>ВСЕ ЧЛЕНЫ ГРУППЫ ПРОДОЛЖИЛИ УСПЕШНУЮ СОЛЬНУЮ КАРЬЕР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1230006202_beatles10.jpg"/>
          <p:cNvPicPr/>
          <p:nvPr/>
        </p:nvPicPr>
        <p:blipFill>
          <a:blip r:embed="rId1"/>
          <a:stretch/>
        </p:blipFill>
        <p:spPr>
          <a:xfrm>
            <a:off x="1663560" y="231840"/>
            <a:ext cx="5085000" cy="39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81bd"/>
                </a:solidFill>
                <a:latin typeface="Calibri"/>
              </a:rPr>
              <a:t>Основопологающий вопрос</a:t>
            </a:r>
            <a:r>
              <a:rPr b="1" lang="ru-RU" sz="4300" spc="-1" strike="noStrike">
                <a:solidFill>
                  <a:srgbClr val="4f81bd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одзаголовок 2" descr=""/>
          <p:cNvPicPr/>
          <p:nvPr/>
        </p:nvPicPr>
        <p:blipFill>
          <a:blip r:embed="rId1"/>
          <a:stretch/>
        </p:blipFill>
        <p:spPr>
          <a:xfrm>
            <a:off x="993600" y="3614760"/>
            <a:ext cx="6797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53735"/>
                </a:solidFill>
                <a:latin typeface="Calibri"/>
              </a:rPr>
              <a:t>ПРОБЛЕМНЫЕ ВОПРОСЫ</a:t>
            </a:r>
            <a:r>
              <a:rPr b="1" lang="ru-RU" sz="4900" spc="-1" strike="noStrike">
                <a:solidFill>
                  <a:srgbClr val="749cdc"/>
                </a:solidFill>
                <a:latin typeface="Calibri"/>
              </a:rPr>
              <a:t>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76268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Почему они оказали серьезное влияние на мировое направление моды, торговлю, промышленность, быт и искусств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071440"/>
            <a:ext cx="3714840" cy="4786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The </a:t>
            </a:r>
            <a:r>
              <a:rPr b="0" i="1" lang="en-US" sz="4000" spc="-1" strike="noStrike">
                <a:solidFill>
                  <a:srgbClr val="0070c0"/>
                </a:solidFill>
                <a:latin typeface="Bookman Old Style"/>
                <a:ea typeface="MS Mincho"/>
              </a:rPr>
              <a:t>Beatles</a:t>
            </a:r>
            <a:r>
              <a:rPr b="0" i="1" lang="en-US" sz="40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были популярной рок-группой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из Ливерпуля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( Англия), которая сформирова-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лась в  1959 году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2392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ДОСТИЖЕНИЯ</a:t>
            </a: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ПЕСНЯ «YESTERDAY» ПОЛА МАККАРТНИ ИЗ АЛЬБОМА «HELP!»,  УЖЕ ЧЕРЕЗ ДВА ГОДА БЫЛА ЗАПИСАНА БОЛЕЕ ТЫСЯЧИ РАЗ, ЧТО ЯВЛЯЕТСЯ РЕКОРДОМ «ГИННЕССА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ГРУППА ВНЕСЛА  НЕОЦЕНИМЫЙ ВКЛАД В РАЗВИТИЕ РОК-МУЗЫКИ. АНСАМБЛЬ НЕ ТОЛЬКО ИЗМЕНИЛ ЕЁ, НО И ДОСТИГ БЕСПРЕЦЕДЕНТНОЙ ПОПУЛЯРНОСТИ, БЛАГОДАРЯ ЧЕМУ  «THE BEATLES» СТАЛИ ОДНИМ ИЗ САМЫХ ЯРКИХ ФЕНОМЕНОВ МИРОВОЙ КУЛЬТУРЫ XX ВЕКА, ПРОДАВ ПО ВСЕМУ МИРУ БОЛЕЕ 1 МИЛЛИАРДА ПЛАСТИН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«БИТЛЗ» СЧИТАЕТСЯ ВЕЛИЧАЙШЕЙ ГРУППОЙ ВСЕХ ВРЕМЁН И НАРОДОВ.</a:t>
            </a: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ТЕЛЕВИЗИОННОЕ ШОУ ЭДА САЛЛИВАНА С «THE BEATLES» (1964) СОБРАЛО 73 000 000 ЗРИТЕЛЕЙ.</a:t>
            </a: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ГРУППА «THE BEATLES» ПОЛУЧИЛА ЗВЕЗДУ НА АЛЛЕЕ СЛАВЫ В ГОЛЛИВУДЕ ЗА ДОСТИЖЕНИЯ И ВКЛАД В ОБЛАСТИ МУЗЫКИ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-231840" y="-231840"/>
            <a:ext cx="8248680" cy="3108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23725766_bitlz.jpg"/>
          <p:cNvPicPr/>
          <p:nvPr/>
        </p:nvPicPr>
        <p:blipFill>
          <a:blip r:embed="rId2"/>
          <a:stretch/>
        </p:blipFill>
        <p:spPr>
          <a:xfrm rot="646200">
            <a:off x="2306520" y="3122640"/>
            <a:ext cx="3949920" cy="3098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the-beatles-rock-band.jpg"/>
          <p:cNvPicPr/>
          <p:nvPr/>
        </p:nvPicPr>
        <p:blipFill>
          <a:blip r:embed="rId1"/>
          <a:stretch/>
        </p:blipFill>
        <p:spPr>
          <a:xfrm>
            <a:off x="609480" y="3097080"/>
            <a:ext cx="7070760" cy="371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2195640" y="30240"/>
            <a:ext cx="455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ни были новаторами во всем, прежде всего в использовании электронной техники, которая применялась не только для выравнивания звучания инструментов, но и для создания спецэффектов, для раздельной записи с последующей перекомпоновкой кусков. Готовое произведение оказывалось смонтированным, как в кино, где шедевр зачастую рождается не столько на съемочной площадке, сколько в монтаж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478720" cy="149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4280040" cy="5497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1:59Z</dcterms:created>
  <dc:creator>Руслан</dc:creator>
  <dc:description>Вот такие пироги...</dc:description>
  <cp:keywords>Ринго</cp:keywords>
  <dc:language>en-US</dc:language>
  <cp:lastModifiedBy>Габов</cp:lastModifiedBy>
  <dcterms:modified xsi:type="dcterms:W3CDTF">2010-06-09T04:51:11Z</dcterms:modified>
  <cp:revision>88</cp:revision>
  <dc:subject/>
  <dc:title>Beatles</dc:title>
</cp:coreProperties>
</file>